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50A4-6792-4900-B863-C0CEE110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79F3-6D8C-4CA4-AF45-052010FA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4266-BA7F-455C-BA88-0237A984D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6C56-14D0-4B72-A24B-E5C59A475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C038-A49F-412E-A7D2-86BEA652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5A9F-F7DB-49E8-8A90-25AD4A67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B10D-5628-4609-946E-3BD61799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9CBA-FA5C-4ABD-BFBF-B56C206E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FE97-31F1-4D96-B7B8-658841BC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90F4-A63E-4658-A39F-15E23E7E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974F-33E1-4D34-BBE8-C05F3011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9D49-BE6A-4562-A8D8-AC15071B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7598-A9C4-4167-8D9A-A26B2E854A6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3280" y="2060640"/>
            <a:ext cx="6477120" cy="481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ff"/>
                </a:solidFill>
                <a:latin typeface="Tahoma"/>
                <a:cs typeface="????Boutros Rokaa"/>
              </a:rPr>
              <a:t>إلى الله صوتي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لـى اللهِ صَوْتِي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َأَصْرُخُ إِلَى اللهِ صَوْتِي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َيَصِيخُ لِي...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َدِي في اللَّيْلِ انْبَسَطَتْ وَلَمْ تَكِلّ. 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قَدْ أَبَتْ نَفْسِي أَنْ تَتَعَزَّى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َذْكُرُ الْمَاضِي فَأَقْلَقُ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َتَأَمَّلُ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َيُغْشَى عَلَى رُوحِي...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-76320"/>
            <a:ext cx="9144000" cy="1356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َكَّرْتُ فِي الأَيَّامِ القَدِيمَةِ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ِي السِّنِينِ الدَّهْرِيَّة.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َذْكُرُ تَرْنِيمِي فِي اللَّيْل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َتَأَمَّلُ بقَلْبي وَرُوحِي يَبْحَثُ.</a:t>
            </a:r>
            <a:r>
              <a:rPr b="1" lang="ar-LB" sz="85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1330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َمَدَى الدُّهُورِ يُقْصِي السَّيِّدُ؟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َلا يَعُودُ يَرْضَى مِنْ بَعْدُ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َعَلَى الدَّوَامِ انْقَضَتْ رَحْمَتُهُ،</a:t>
            </a:r>
            <a:r>
              <a:rPr b="1" lang="ar-LB" sz="85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851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َانْقَطَعَتْ كَلِمَتُهُ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ِلِى جِيلٍ فَجِيل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َتُرَى نَسِيَ اللهُ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َمْ حَبَسَ عَلى الغَضَبِ أَحَشَاءَهُ.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06:55:47Z</dcterms:created>
  <dc:creator>-</dc:creator>
  <dc:description/>
  <dc:language>en-US</dc:language>
  <cp:lastModifiedBy>-</cp:lastModifiedBy>
  <dcterms:modified xsi:type="dcterms:W3CDTF">2003-04-18T11:22:21Z</dcterms:modified>
  <cp:revision>3</cp:revision>
  <dc:subject/>
  <dc:title>Slide 1</dc:title>
</cp:coreProperties>
</file>